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F81-7CD7-4E57-A486-28248F1C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101-FB1F-4119-889C-4F3F2DA1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BC8-E718-44F9-B1FF-C1AC3406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A30-9F60-4FB4-A98D-C437187E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44D-C7F0-4D8F-84A9-018C72FD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CB9-5029-46EC-B9BE-298025B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09D-CA49-48E5-AB82-24DBCFA2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298-CE28-4D1F-B7F3-00C08D0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70C-169D-4C31-AAD8-8291BEA1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0C2-7949-427C-80E5-A0B5B25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9A4-57ED-4FAD-9371-8BD1A5D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504-84FA-4D96-86AD-4FE3026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3EBB-2BF9-4860-9049-5D39E00702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637000" y="2411280"/>
            <a:ext cx="3887640" cy="67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1280" y="3706920"/>
            <a:ext cx="3141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476280" y="0"/>
            <a:ext cx="2952720" cy="24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60280" y="3635280"/>
            <a:ext cx="1368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637000" y="2411280"/>
            <a:ext cx="3887640" cy="67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1280" y="3706920"/>
            <a:ext cx="3141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565360" y="1258920"/>
            <a:ext cx="7164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60280" y="3635280"/>
            <a:ext cx="1368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565360" y="2556000"/>
            <a:ext cx="3959280" cy="65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565360" y="3708360"/>
            <a:ext cx="395928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852640" y="2700360"/>
            <a:ext cx="1297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797360" y="3419640"/>
            <a:ext cx="576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74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79" name="Oval 3"/>
          <p:cNvSpPr/>
          <p:nvPr/>
        </p:nvSpPr>
        <p:spPr>
          <a:xfrm>
            <a:off x="3716280" y="611280"/>
            <a:ext cx="1944720" cy="20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Oval 3"/>
          <p:cNvSpPr/>
          <p:nvPr/>
        </p:nvSpPr>
        <p:spPr>
          <a:xfrm>
            <a:off x="4005360" y="1116000"/>
            <a:ext cx="143964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34:09Z</dcterms:created>
  <dc:creator>GRANGE</dc:creator>
  <dc:description/>
  <dc:language>en-US</dc:language>
  <cp:lastModifiedBy>vanessa</cp:lastModifiedBy>
  <dcterms:modified xsi:type="dcterms:W3CDTF">2014-09-29T22:12:50Z</dcterms:modified>
  <cp:revision>2</cp:revision>
  <dc:subject/>
  <dc:title>Slide 1</dc:title>
</cp:coreProperties>
</file>